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B3D-304F-4428-B4B0-EF91CE6C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86A-526C-4D9A-87F2-360B590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897-FA0E-486C-8187-D5B4AF45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F66-9D37-4916-9219-5A39BA21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DFC-28EC-4148-8F21-00564D5E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DA6-5C66-41AA-B44E-2301F232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666-3840-4903-8E44-30316182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03F-FADC-4845-A87C-1E549B4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758-E594-4715-BB60-7A2695C5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DB5-B430-4E6B-9654-3D6843A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0C8-835D-483B-ADD5-53158CA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075-0FB7-44B0-9AA5-9BF513D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258-D06F-479B-A1C3-DF0E427FE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cago"/>
              </a:rPr>
              <a:t>Preterite of -ir stem-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EÍ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í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523520" y="17524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1523520" y="3276720"/>
            <a:ext cx="38124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1371600" y="4952880"/>
            <a:ext cx="38088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 flipH="1">
            <a:off x="5181120" y="17524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5181120" y="3352680"/>
            <a:ext cx="381240" cy="3049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 are oth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verbs with stem changes in the preterite ten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200400" y="4191120"/>
            <a:ext cx="4952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V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diver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diver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i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diver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diver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i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N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N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sen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sen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sen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sen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80880" y="4952880"/>
            <a:ext cx="845820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ES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desp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desped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es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197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 desped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desped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des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T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GU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gu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V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v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v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know that stem changes in the present tense take place in all forms excep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sotro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ferir (e &gt; i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 ver programas deportist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dir (e &gt; 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dimos los espeguetis.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(No chan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V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IRSE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 ves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 vest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 vest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 vest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v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MORIR (o &gt; 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í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eí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áctica: Responde con una frase compl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sirvió la cena anoc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é pediste en el restaurante? ¿Y tus pad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Hasta qué hora durmieron tus amig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repitió las palab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Quién no siguió las instruc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rmir (o &gt; 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hermanos d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men tar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reterite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bs lik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eferir, ped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orm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have stem changes but only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d./él/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ds./ellos/ella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se forms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495680" y="5943600"/>
            <a:ext cx="38102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 mamá se aburrió y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e durmi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urante la pelíc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s padres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refirier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el concurso de belle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lig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mpitier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s mejores equipos de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er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IR (e &gt; 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d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4952880"/>
            <a:ext cx="7925040" cy="144792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Chicago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RMIR (o &gt; ue,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m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19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rmist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mie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Preterite of -i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cago"/>
              </a:rPr>
              <a:t>stem-changing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the special spelling of the preterite forms of reí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7:30:58Z</dcterms:created>
  <dc:creator>NIHS</dc:creator>
  <dc:description/>
  <dc:language>en-US</dc:language>
  <cp:lastModifiedBy>Jessica Kaplan</cp:lastModifiedBy>
  <cp:lastPrinted>2011-09-29T15:40:58Z</cp:lastPrinted>
  <dcterms:modified xsi:type="dcterms:W3CDTF">2011-09-29T18:59:43Z</dcterms:modified>
  <cp:revision>10</cp:revision>
  <dc:subject/>
  <dc:title>Preterite of -ir stem-changing verbs</dc:title>
</cp:coreProperties>
</file>